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8628-4DAD-4B39-A722-861808F6F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6FDA-631E-41D7-9E79-8DCF5E2CB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1E34-4AB9-41BF-BBC8-E9D3761B8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071-5FE5-41B0-8C9D-05F0CE6B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0DF-8760-47E4-9FC2-1B0D3452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4D9-9897-4CA7-95EE-64184033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CB5-11F4-4CFC-B370-5BEA8D21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242-4671-422F-A581-C3A4D063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D7C-1CCC-480C-9214-F8F1F4DE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278-825A-46FD-ABB9-1F3B2252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3C6-13EF-4FE6-B8B9-0FA4FEB8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085-85FD-41D7-9F4E-682B5E5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BC8-CCDC-4E03-B0B4-E2541E7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8C9-9E4C-4836-B6B1-F49ECCB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757-9BAA-4C40-8945-9AA6C8C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08D8-FCD6-4FD2-8FD7-9FE452721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C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2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5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600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08440" y="3192480"/>
            <a:ext cx="1527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6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08440" y="3192480"/>
            <a:ext cx="1527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PTF256-10Gx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PTM-10Gx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2-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491000" y="3468600"/>
            <a:ext cx="162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2-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486320" y="3468600"/>
            <a:ext cx="171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6-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00560" y="3541680"/>
            <a:ext cx="542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6-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00560" y="3541680"/>
            <a:ext cx="542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-TNC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-TSC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200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5:58Z</dcterms:modified>
  <cp:revision>5</cp:revision>
  <dc:subject/>
  <dc:title>Slide 1</dc:title>
</cp:coreProperties>
</file>